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CE2-C4F5-44A8-AD01-840BA342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06C-D54A-4248-BED3-488FCE91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D79-2331-4806-8FB5-A506E215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93A-6A07-40AE-B1B3-7E786B0A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3D1-E377-4A03-83B9-E4A548ED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5BA-A54E-4147-A7A0-DF2A494C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6C8-69EA-4781-BBA5-5A1BFC5A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64B-9283-4C3E-AC0C-E9834950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98D-EA9F-4070-A72F-768E1CD4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27A-7D35-4380-8CDE-9B609A76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694-B902-40BE-9289-B19EA342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1E5-49BC-4725-8A78-B71522D7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2076-376E-4A25-80C4-495F15EC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Spanish civil w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1936-19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28657001"/>
          <p:cNvPicPr/>
          <p:nvPr/>
        </p:nvPicPr>
        <p:blipFill>
          <a:blip r:embed="rId1"/>
          <a:stretch/>
        </p:blipFill>
        <p:spPr>
          <a:xfrm>
            <a:off x="1219320" y="1676520"/>
            <a:ext cx="69339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yalists vs. Nation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Nationalists created “fiestas of dea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Bull 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achine-gunning intellectuals, priests,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a-Franco-TakingAccolades"/>
          <p:cNvPicPr/>
          <p:nvPr/>
        </p:nvPicPr>
        <p:blipFill>
          <a:blip r:embed="rId1"/>
          <a:stretch/>
        </p:blipFill>
        <p:spPr>
          <a:xfrm>
            <a:off x="4114800" y="2433600"/>
            <a:ext cx="45720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European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Political right battled against socialism, communism, and anarc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Foreign volunteers joined loy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20,000 foreign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ernational brigades” began defending Madrid in November 19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0415914086"/>
          <p:cNvPicPr/>
          <p:nvPr/>
        </p:nvPicPr>
        <p:blipFill>
          <a:blip r:embed="rId1"/>
          <a:stretch/>
        </p:blipFill>
        <p:spPr>
          <a:xfrm>
            <a:off x="5130720" y="1600200"/>
            <a:ext cx="336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European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Writers who fought with loyalists wrote abou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Whom the Bell Tolls” (19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Homage to Catalonia” (19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1958615"/>
          <p:cNvPicPr/>
          <p:nvPr/>
        </p:nvPicPr>
        <p:blipFill>
          <a:blip r:embed="rId1"/>
          <a:stretch/>
        </p:blipFill>
        <p:spPr>
          <a:xfrm>
            <a:off x="4724280" y="1919160"/>
            <a:ext cx="4038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Franco’s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Franco advantage over loy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Loyalists lacked necessities (out of date equip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easants il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Anarchis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eign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Not enough help from wester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franco"/>
          <p:cNvPicPr/>
          <p:nvPr/>
        </p:nvPicPr>
        <p:blipFill>
          <a:blip r:embed="rId1"/>
          <a:stretch/>
        </p:blipFill>
        <p:spPr>
          <a:xfrm>
            <a:off x="4815000" y="1600200"/>
            <a:ext cx="3806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European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British government refused to get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France feared a widened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Soviet Union:  the  only country to aid the Spanish Republic with tanks, airplanes,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E01829_[1]"/>
          <p:cNvPicPr/>
          <p:nvPr/>
        </p:nvPicPr>
        <p:blipFill>
          <a:blip r:embed="rId1"/>
          <a:stretch/>
        </p:blipFill>
        <p:spPr>
          <a:xfrm>
            <a:off x="4648320" y="2476440"/>
            <a:ext cx="40384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Italy &amp; Germany’s r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G and I assistance w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taly sent 100,000 troops (easily defe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talian pilots destroyed loyalists suppl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joker"/>
          <p:cNvPicPr/>
          <p:nvPr/>
        </p:nvPicPr>
        <p:blipFill>
          <a:blip r:embed="rId1"/>
          <a:stretch/>
        </p:blipFill>
        <p:spPr>
          <a:xfrm>
            <a:off x="5030640" y="1371600"/>
            <a:ext cx="3303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Italy &amp; Germany’s r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&amp; I assistance w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ler sent planes, guns, munitions,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nationalist pilots and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Mussolini%20and%20Hitler%20-%20Guardian%20Angels"/>
          <p:cNvPicPr/>
          <p:nvPr/>
        </p:nvPicPr>
        <p:blipFill>
          <a:blip r:embed="rId1"/>
          <a:stretch/>
        </p:blipFill>
        <p:spPr>
          <a:xfrm>
            <a:off x="4740120" y="1600200"/>
            <a:ext cx="4024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Italy and Germany’s r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and I assistance w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 Condor Legion bombed loyalist army and civil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6, 1937 bombed Guer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H04"/>
          <p:cNvPicPr/>
          <p:nvPr/>
        </p:nvPicPr>
        <p:blipFill>
          <a:blip r:embed="rId1"/>
          <a:stretch/>
        </p:blipFill>
        <p:spPr>
          <a:xfrm>
            <a:off x="4648320" y="2079720"/>
            <a:ext cx="4038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guernica"/>
          <p:cNvPicPr/>
          <p:nvPr/>
        </p:nvPicPr>
        <p:blipFill>
          <a:blip r:embed="rId1"/>
          <a:stretch/>
        </p:blipFill>
        <p:spPr>
          <a:xfrm>
            <a:off x="1295280" y="393840"/>
            <a:ext cx="655344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Franco’s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7 – Franco controlled north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celona fell in January 1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ain and France recognized Franco’s Reg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j0270912[1]"/>
          <p:cNvPicPr/>
          <p:nvPr/>
        </p:nvPicPr>
        <p:blipFill>
          <a:blip r:embed="rId1"/>
          <a:stretch/>
        </p:blipFill>
        <p:spPr>
          <a:xfrm>
            <a:off x="4888080" y="1828800"/>
            <a:ext cx="379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The Span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Battlefield of European ide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Testing ground for new German 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High Tower Text"/>
              </a:rPr>
              <a:t>Nobility, C.C. and army</a:t>
            </a: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 controlled politics in 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770"/>
          <p:cNvPicPr/>
          <p:nvPr/>
        </p:nvPicPr>
        <p:blipFill>
          <a:blip r:embed="rId1"/>
          <a:stretch/>
        </p:blipFill>
        <p:spPr>
          <a:xfrm>
            <a:off x="5035680" y="1600200"/>
            <a:ext cx="3514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Franco’s Dicta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Franco NOT a typical Fasc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j0116907[1]"/>
          <p:cNvPicPr/>
          <p:nvPr/>
        </p:nvPicPr>
        <p:blipFill>
          <a:blip r:embed="rId1"/>
          <a:stretch/>
        </p:blipFill>
        <p:spPr>
          <a:xfrm>
            <a:off x="5486400" y="1828800"/>
            <a:ext cx="2986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o’s Dicta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ansion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ed C.atholic Church som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j0212511[1]"/>
          <p:cNvPicPr/>
          <p:nvPr/>
        </p:nvPicPr>
        <p:blipFill>
          <a:blip r:embed="rId1"/>
          <a:stretch/>
        </p:blipFill>
        <p:spPr>
          <a:xfrm>
            <a:off x="4876920" y="2057400"/>
            <a:ext cx="400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impact of Spanish Civil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G and I closer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solini wanted to become closer to Hi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936, Mussolini signed pact with Hi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rauscher"/>
          <p:cNvPicPr/>
          <p:nvPr/>
        </p:nvPicPr>
        <p:blipFill>
          <a:blip r:embed="rId1"/>
          <a:stretch/>
        </p:blipFill>
        <p:spPr>
          <a:xfrm>
            <a:off x="5518080" y="2192400"/>
            <a:ext cx="28958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impact of Spanish Civil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solini visits Berlin in fall of 19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 flattered the 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Interests lay to th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 Could have the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1941%20Hitler%20&amp;%20Mussolini"/>
          <p:cNvPicPr/>
          <p:nvPr/>
        </p:nvPicPr>
        <p:blipFill>
          <a:blip r:embed="rId1"/>
          <a:stretch/>
        </p:blipFill>
        <p:spPr>
          <a:xfrm>
            <a:off x="4572000" y="2031840"/>
            <a:ext cx="4343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European impa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panish Civil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solini originally had support of Jewish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8 M. campaigned agains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itlmusso"/>
          <p:cNvPicPr/>
          <p:nvPr/>
        </p:nvPicPr>
        <p:blipFill>
          <a:blip r:embed="rId1"/>
          <a:stretch/>
        </p:blipFill>
        <p:spPr>
          <a:xfrm>
            <a:off x="4648320" y="1984320"/>
            <a:ext cx="41907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3amigos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and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Regional hos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Cata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Bas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Labor str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Assass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Police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1768"/>
          <p:cNvPicPr/>
          <p:nvPr/>
        </p:nvPicPr>
        <p:blipFill>
          <a:blip r:embed="rId1"/>
          <a:stretch/>
        </p:blipFill>
        <p:spPr>
          <a:xfrm>
            <a:off x="5643720" y="2438280"/>
            <a:ext cx="295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 &amp;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Spanish Republic formed in 19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Anticlerica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New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Land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Wealthy landowners joi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igh Tower Text"/>
              </a:rPr>
              <a:t>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cwposter"/>
          <p:cNvPicPr/>
          <p:nvPr/>
        </p:nvPicPr>
        <p:blipFill>
          <a:blip r:embed="rId1"/>
          <a:stretch/>
        </p:blipFill>
        <p:spPr>
          <a:xfrm>
            <a:off x="4802040" y="1295280"/>
            <a:ext cx="3876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 &amp;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Black Years (33 to 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Right more conservative, left more vio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ct Revolution of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eftists rose up and were crushed by General Fr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pasiones-large"/>
          <p:cNvPicPr/>
          <p:nvPr/>
        </p:nvPicPr>
        <p:blipFill>
          <a:blip r:embed="rId1"/>
          <a:stretch/>
        </p:blipFill>
        <p:spPr>
          <a:xfrm>
            <a:off x="4419720" y="161460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and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1935 (Radicals, Socialists, Communists) formed the Popular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ell apar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Fascist movement of lower middle class similar to Italian and German Fasc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j0189440[1]"/>
          <p:cNvPicPr/>
          <p:nvPr/>
        </p:nvPicPr>
        <p:blipFill>
          <a:blip r:embed="rId1"/>
          <a:stretch/>
        </p:blipFill>
        <p:spPr>
          <a:xfrm>
            <a:off x="4267080" y="2595600"/>
            <a:ext cx="44960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and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July 17, 19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ilitary insurrection in Mo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 &amp; It. took insurgent to Spanish ma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Took over loyalist troops in key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Loyalists were still divided and not un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Nationalists became more unified under Fr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TN00717_[1]"/>
          <p:cNvPicPr/>
          <p:nvPr/>
        </p:nvPicPr>
        <p:blipFill>
          <a:blip r:embed="rId1"/>
          <a:stretch/>
        </p:blipFill>
        <p:spPr>
          <a:xfrm>
            <a:off x="4648320" y="2604960"/>
            <a:ext cx="40384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and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General Francisco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hort, portly, b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nsidered himself a warrior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franco"/>
          <p:cNvPicPr/>
          <p:nvPr/>
        </p:nvPicPr>
        <p:blipFill>
          <a:blip r:embed="rId1"/>
          <a:stretch/>
        </p:blipFill>
        <p:spPr>
          <a:xfrm>
            <a:off x="4638600" y="1600200"/>
            <a:ext cx="4100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Loyalists vs. Nationa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ivil war was as savage-like as 1600’s War of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1/6 were killed in ba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Nationalists air raids killed mostly civil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Disease and malnutrition in political p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ergy and nuns killed by loy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beat1"/>
          <p:cNvPicPr/>
          <p:nvPr/>
        </p:nvPicPr>
        <p:blipFill>
          <a:blip r:embed="rId1"/>
          <a:stretch/>
        </p:blipFill>
        <p:spPr>
          <a:xfrm>
            <a:off x="5022720" y="1523880"/>
            <a:ext cx="3430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5:45:44Z</dcterms:created>
  <dc:creator>padmin</dc:creator>
  <dc:description/>
  <dc:language>en-US</dc:language>
  <cp:lastModifiedBy>Sue Gregory</cp:lastModifiedBy>
  <dcterms:modified xsi:type="dcterms:W3CDTF">2008-04-16T05:13:11Z</dcterms:modified>
  <cp:revision>9</cp:revision>
  <dc:subject/>
  <dc:title>Slide 1</dc:title>
</cp:coreProperties>
</file>